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33BD146-892C-413C-A297-E0AD34F13781}"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4145282-D997-43BB-BEFE-FAC6AC56827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FE07F464-9AB9-4804-B3F7-27764F4A42A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DD0491B-1CE6-450F-92F5-E39FE151206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11CDBE8-8D33-433B-AC71-6A25974777F5}"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5C6106C-D9AB-4759-8E1B-7F7BA968353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F641DB4-1F3A-4963-BEE6-3C87952E5AB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4787FA1-63B4-4A89-9A8E-FAA5F46730E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0B32F0C4-2128-4F7F-A8D7-F5DA02D9CE5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658DBC-9821-42EC-8C9F-9CD600B415C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E4F2991-0DF0-4949-A39A-0D9BE5693ED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D981B58-8758-4F8B-97EC-8DA9CC8343E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3D59E86-E7F8-43AE-AD22-84A20E81DF2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6B610DD-C01A-4285-867E-2692FF57F0B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68F1D35-3111-47F1-AEDE-04A047213B3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DE3C9C1-7F3B-4EAD-B360-F1862989709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42EEB30-AC07-41A9-B7E2-36EFF251B15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DBA9CB6-1712-41F6-B248-5BE8FA20679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64858E-1593-49E8-9E7D-487B7748FFB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76BD37-991F-49F2-95F5-2141E7E9ED4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8279292-85A4-402A-A911-1C5CE45461A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D8C64FA-BD53-45C6-AA04-49548872520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DBDF88-9780-45ED-A737-52F0932C66A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24ACF5-5DC1-4A3D-AF0B-86DE4FA890F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8469D16-E68C-47E7-9EFD-A2991C57511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8F19480-D935-40FF-BFDF-E0BE5E549F8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FD740C-AC15-4298-80E9-9417085D377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855ACAC-4502-4A69-9CA8-3CA06E7BF40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44A87BE-6CDE-48C6-941D-5EEAB1C0A200}"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1DB3F78-12F2-4749-AE22-1103AB74B91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71CE2DE2-76B6-435D-978B-4CD49A23CB3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C1F19-2E9C-421D-9BA7-9330C625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270BB-3E15-48BF-AB7B-A36FA71FE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7FFBF-A2EB-4FF7-9805-8B0309FD2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FA88-F16F-4E53-97AB-91FEC1673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91C1A-79B5-4B51-88EE-1FFE97A51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4F19B-4448-41C7-8D6E-959F4E493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ADDDF-D4B9-41E3-88C8-0CBF99967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4FEBA-37C6-4BDE-9AA9-26063CA12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9D9CD-E55C-4AF1-B825-2006DFE67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E8502-7329-448C-839F-66E8CD21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3A93C-B085-4AE1-9F36-4C86C3FD8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30BD-31D2-4F3F-B209-3DB2518B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21074-3B78-4C9F-8A71-2F2A483B0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2270-E46A-48B1-B83D-9D4BC0686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3EA39-AFB2-432F-B732-DE0016CE4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FDBF9-6AC9-408B-BC32-9F12FE10F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28FE4-9DB1-4DF8-A96E-DCF139769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BBAE-2FD2-4AFE-97F2-6D9C27E0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6A701-55BB-422D-BD6A-2524B63B6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7D81-5D95-4F5B-BB75-BD21B6995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0A0A3-8BB3-4110-9448-A1A5DA4D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8998-DAA8-4EE2-9D78-7177C9606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907F-71A9-46C3-845B-E75FBC8E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71BE-6F58-4141-9237-E1818A0BB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9E1EFF-8EA5-4EE9-9E08-08EA7008D680}" type="datetime">
              <a:rPr b="0" lang="zh-TW" sz="1400" spc="-1" strike="noStrike">
                <a:solidFill>
                  <a:srgbClr val="000000"/>
                </a:solidFill>
                <a:latin typeface="Arial"/>
              </a:rPr>
              <a:t>115/07/29</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9FF98E3-0F5C-4D50-B1E8-45804FD95DBB}"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471D68-2E81-4EB8-AE66-A99E89458E27}" type="datetime">
              <a:rPr b="0" lang="zh-TW" sz="1400" spc="-1" strike="noStrike">
                <a:solidFill>
                  <a:srgbClr val="000000"/>
                </a:solidFill>
                <a:latin typeface="Arial"/>
              </a:rPr>
              <a:t>115/0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C80274-D841-4124-9229-699AB2657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502ADE6-B246-42E7-939E-AE438FB6747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C0C98A-A299-4557-BFA5-95519BFE28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FF29F-F27E-4BC3-B450-02B89D63677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B913C4-AC37-48F5-8649-E995F48A893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53B662-4484-420E-BB29-7C910BCE82B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C3AF1C-33AE-4011-ABD6-B1683EB5A1E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7BABFF9-2FE6-4D14-81BA-90DFCDD2F24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E28AA7-62E5-4311-BA91-D48A35DA8F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4332C6-A585-461D-98B1-E286077B676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0A3A131-D6EA-4691-8A83-27913A9D8C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4203C15-CBD0-4C01-B640-B4A24DEEAD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2EEBE8F-2695-4F6E-89C3-3E9D27E8597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182208-C53F-4ADB-A515-2C3EF6AA75FB}" type="datetime">
              <a:rPr b="0" lang="zh-TW" sz="1400" spc="-1" strike="noStrike">
                <a:solidFill>
                  <a:srgbClr val="000000"/>
                </a:solidFill>
                <a:latin typeface="Arial"/>
                <a:ea typeface="新細明體"/>
              </a:rPr>
              <a:t>115/07/29</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4EBBE9E-A33C-4D9F-8678-A1DAE6521BD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D68C0C9-26EE-4AB7-BC75-C1EC5B8102C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7355A7D-9FB1-4EF4-A2E0-AEC1408B74A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E37A58-DCEF-4EEE-B056-300BD1ED8A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B54B89A-ED1E-4B53-B280-A70BB3B7606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FB5D6F-1D9F-4E5A-9995-813B3889DCC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36C375A-6E54-4DCA-B523-D22443F1831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9F01753-A011-454E-8DA9-365DD186723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25D9AB9-3883-4781-85F6-3F7981DD91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90D34B3-D292-45E9-9EA2-24C9E351670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2F5502F-5D48-4D7F-B2A1-F95E0E1606B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D7BF77-5262-4A36-8974-55B2C11EC09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DD9C53-ED77-41F8-BD7E-46E066D499A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A76F35-C5C5-477E-A137-874E1FE7A6D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8CD2EA1-886B-424B-835A-512994A2CBF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98383D2-074A-4EC2-BDDD-E4DF325B100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5C538B-D174-42B3-B870-7F7E189EA39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E0A7FD4-98E5-4C9F-8C3C-E16A770F045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06EC2-A7E6-4C63-ABBD-B8EBDBA5002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C325082-5CBC-41EF-97D2-294B26C65CF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5CC49-CF1F-4127-81BD-ED7F0405059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FD86565-D1D6-4420-9424-8153425D48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40347-D73A-490F-B0C3-945ADE00878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2ABE84-B3FD-4598-B1EB-C666B096E6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67512-2285-4931-AE89-09EBD283DFA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500914-2D63-4F0E-915F-6861FF8C40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9326A5-5087-4B2B-BFA3-C2E74010DDB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AFBB7-238D-440C-9EA7-89BAD9CAA44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ACC881-856D-482D-85F1-E34B90C22DC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CEC9CE-E5AA-41F8-81B9-B551DAF416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34673-BA01-4622-A7F9-9ADD494F3B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1E59BD-19E2-4CF1-AC71-DE65E5CFE6F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DD15D0F-5516-4A66-9994-A8B0742D621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6B1BE37-5E3F-495F-A7EF-3554777057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BDD50-3FA8-4249-B63D-6B9A9040846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0B907F-4423-4503-A16B-217025C8D19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F40AB99-EC3B-4E0C-8E27-D1DF2DC1A38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2329F-501B-446E-9043-838B967253D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140D11-06FC-4105-A9F7-01C981F0898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1F410A-3DBF-47FD-B199-25D7B46A9E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3C8285A-BFA3-4E25-BB24-7839F4164BA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2C16D6-7C44-4782-A7E6-F5A9237015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9FDDD3-3F43-498E-BE00-BCB62442C47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F29B487-A054-4495-A4A6-24E2A2F93B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3A2BE4-9D96-49FD-8660-274EF0CD9BA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397B7A-547C-4CD3-89CF-4E94B7FCEF7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D600B16-393C-4E1B-BEBF-C56A46E695C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2E98D4-6631-45C2-8008-DA8F3AEC88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859501-EE9B-44C9-9D68-2B282C81FE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6EA0745-2079-4556-8110-B57805840E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FBA0EB3-4CC0-4828-BA63-CA5C5E742B6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91152FB-9898-45FD-AB8D-16653D2B2D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406DAB3-1860-4990-975E-0E7345F25F3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9923B1-02B7-4AD2-88E0-343680BDA83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A183C20-9895-4545-9C3D-0B3181E0CCE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0DC157-E74D-474C-8B18-F7C4E7FD307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51B5C3E-B92A-42C6-B3F9-DFF07DE5280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7E516-F15F-41B7-9068-9A584D81D8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0EB1CD3-C334-456F-B9AA-6A1740818C1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D6EBB-131E-4D6D-85B4-CEFCEF3F3C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3D9C76-7F55-482F-A04F-B98A4E737EC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BFF63BE-6E86-46E1-B506-BC1F52417EA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A4CD362-41DE-4FC0-81CE-539170F4FBC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DC15B5-E180-4A9D-8046-BAF4E211880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E896AF7-3253-4E7A-8125-1AD7B2C5B3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D257F7-3A74-4BC5-9907-D7E09054BE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1525C6-01EB-4C5D-A2F3-A1AB3BABAA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B78317-E9B7-4779-B3DD-68D6058EFB0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358A8F-CF6D-44B7-86E9-E4594EB7EC2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937F63A-08E1-4000-8372-E97F0E097B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2E8440-9FA6-4A51-8F37-66EDB51C5F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2702F9-F5E9-4423-8DEB-E1E6CF9188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937958-CC4A-4E4E-BBC5-43BBDDBCAF0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C021CF2-52D4-47E5-A35A-7F98D7525FF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826E30-4224-46A3-9AB2-11A20BE70CA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28B3F0-3281-432A-8E24-ECB50DA467D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41E55C2-4C58-4B07-A758-88883189D61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5E5F8A-2472-4760-AEB2-E3D09A9E1AC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F28424-B76C-4D46-B7E3-1184DDB2FD5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2D525D2-1626-4042-ACAB-7A8DD3E70B4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C1FD02-8E5F-4222-AAFB-13ECDB9E10B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4112BDF-B468-4471-B454-A12CBA88A5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B15EB4-C6ED-46BE-92FF-E133D73596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C43958-2B87-46B4-A834-A6E0970E4BB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ED6F4B-C3F8-4041-8308-D13F9BDA361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897B567-0ED9-40B2-B74A-F6B7BC8C8E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875B74-ED83-42FB-AFF7-B22A5AA488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5329CFA-AA30-461C-94B7-287A6F2B41D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6A1FA13-9FD4-4F7A-B4ED-17926336E4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4B18FB-533B-4EDA-BBE7-D7703424AD5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D62F70-1E6F-432E-A38D-FEB88CFA64C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9FB729-E36C-4F20-A8CF-DADB6DDA473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C46BC70-4BCD-4ACF-B16F-9BDB0953BBE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DE6679-2F45-40DE-B5D9-D7DBAFE2089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F83DD7-0FFF-4E91-B88F-C3ED3446A5D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D1093F-7015-40CD-BD05-26FCA2FCF84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50B3DA2-91D2-4B34-94C5-F773BE536C3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E206FBC-675A-4BE5-B553-CEE0B939752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F68AC4E-F845-49DA-8FA6-BBE65ABC59A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644842-3254-4DD4-BFEE-9B41E05BDFF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122E263-F52C-4D70-B4DB-FBC8C91CDE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74910A-C0C2-4E09-9CC3-1B9F2CF2266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C9C12-5933-4002-BB19-B05C334E598D}"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897DC0B-8B84-40CE-A0A2-734404C0B8D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E52F71-08F6-4669-B8AA-057FACAA32C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9598FF0-9C62-46CC-A475-7157805F57B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C5715B-0135-434B-B2C9-A296D4DAC49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364C5A-4CA1-4362-9B50-902ECEE8B45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27995FC-B33A-4CA5-8C48-BE5DD7915BA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231205-5A0D-40A9-930A-E116392F234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BAF8F8-F09F-4258-8097-46D06D015D1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D7DD805-7E9D-4083-ACCD-21F29AC3506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0850ADB-37D6-41F7-827D-5241F76225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B24A16-DF75-45D8-BD03-B2396E3E0F6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DE7AC4-B92D-4834-A186-1F83971395F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BF49ED-865C-4570-ACFB-084DE835172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EDB2F2-9E4B-497C-BE0B-2389D92F2AD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C2B7F6-2E26-41D3-9101-ABD0B4B91F6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69DB5E-C176-4B9E-A20C-8623DE1915E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9F3246-1C13-4465-B6B0-601EEF0BE74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742B29E-E1CF-4D7D-82C8-6DC23A007B1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C94D81-5A97-4276-9EB5-456D22F442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0C13AF-161A-4B08-8660-4C6F78B4E09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5CF394-6D32-4BB2-AB8C-61DD88E626A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04F06F3-8514-460A-B1FF-B18F03C6EA0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8DB7D0-0836-4FA1-8C39-757B3295371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C690DA4-9CBE-408C-A7DB-D1EE93DA649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2D875F4-5467-4A76-98A0-2B7D10116CF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6C92E79-C84F-428C-8A45-6C015B3BA1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07CEC3E-30C7-45DB-9A74-03138163DCCB}"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2526E02-E3B9-4FD3-A630-CFB2B7D8733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C582347-B136-4E24-9413-89E2007BBACA}"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2C4C75-6B44-4504-802A-E299C7511E6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7AB2F23-ABEB-4E72-AC55-31C4B5D8E0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FA6A3C0-803E-4CC7-8FDF-A5082E76EC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2BA5D6-6617-42BE-BCEF-3093E9DF9209}"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1D8FB11-CF05-48FD-B374-4D9A8B7BFFA6}"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620688-7792-40C3-8DDD-1D2E80A35478}"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64796F-413E-473F-A9AA-2DB29B7CDCC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FDE5812-B0DD-4B97-9B67-78680E497F8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19CF4C1-1A39-490E-A1A0-203B9FFB19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5E6A946-0843-41ED-A204-D35B551BEE0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AE474-D463-4946-8678-6359DC02F96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